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9CD-7ABE-4BE9-94BC-2266B2AB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D8E-9A96-4F6B-8217-4C7CE58C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448-567D-4414-AA73-B312AA0E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EA55-ECBA-43AD-9E8E-571324B3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7C61-6105-4CDD-ABD6-754CC3B6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D91F-262C-4513-8EC6-96858AF4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28C1-9606-468B-9C02-B8BD3AA8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1536-82FC-4C27-96A5-F13D290D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D29A-5A02-4840-94B4-786EA420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E5E9-A5A3-4DA5-BB27-C7887C58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4C07-AFD7-45A8-AA24-14A310E6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65C-4D96-4E0B-9875-59FB48B5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E66B-F6FF-4A98-A4BA-3727F2C4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C7B8-3C38-49BE-A9BC-C09AD8B1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6AED-1586-49A8-87C4-B8A94309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722E-8E80-4355-8869-4C602608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8374-CE77-4134-8764-D96BDFA3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07CD-A537-4FBB-97BF-15286D35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1551-FF74-4673-B7FA-F262084D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DB39-8FBC-4745-8B43-4D2F6D20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FE3-25C2-49A0-9B67-4DFD6291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8598-E7EB-46DF-B0DB-AF9C63E0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980-5185-49A7-8256-9F0EC34F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3F25-4860-43B2-BEBA-7407A0DA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4D5E-0AEA-4D71-AAF5-8D855261FEB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3EC9-D349-40B2-A574-373CE171842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Kunstler Script"/>
              </a:rPr>
              <a:t>                      </a:t>
            </a:r>
            <a:r>
              <a:rPr b="0" lang="en-US" sz="4400" spc="-1" strike="noStrike">
                <a:solidFill>
                  <a:srgbClr val="66ffff"/>
                </a:solidFill>
                <a:latin typeface="Kunstler Script"/>
              </a:rPr>
              <a:t>Advantages in Russi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Kunstler Script"/>
              </a:rPr>
              <a:t>By Jason Xia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split dir="out" orient="vert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lang="en-US" sz="4400" spc="-1" strike="noStrike">
                <a:solidFill>
                  <a:srgbClr val="66ffff"/>
                </a:solidFill>
                <a:latin typeface="Monotype Corsiva"/>
              </a:rPr>
              <a:t>Advantag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Russia is now a free market economy and a democrac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Russia has a better chance at winning a war because of its wint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Russians get free health care and Russian made medicin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It has great food there, that is inexpensive like squid salad, crab meat sala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Jobs aren’t very hard to fin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You can have a very good time in Russia from movies, clubs, theaters, operas, concerts, exhibitions, festivals, and fair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0" lang="en-US" sz="4400" spc="-1" strike="noStrike">
                <a:solidFill>
                  <a:srgbClr val="66ffff"/>
                </a:solidFill>
                <a:latin typeface="Monotype Corsiva"/>
              </a:rPr>
              <a:t>Advantages vs. disadvantag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Monotype Corsiv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Monotype Corsiv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Kunstler Script"/>
              </a:rPr>
              <a:t>                     </a:t>
            </a:r>
            <a:r>
              <a:rPr b="0" lang="en-US" sz="4400" spc="-1" strike="noStrike">
                <a:solidFill>
                  <a:srgbClr val="66ffff"/>
                </a:solidFill>
                <a:latin typeface="Kunstler Script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Brought to you b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     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Magdalena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          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Jason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    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and Jennif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5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5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0:50:55Z</dcterms:created>
  <dc:creator>QPS</dc:creator>
  <dc:description/>
  <dc:language>en-US</dc:language>
  <cp:lastModifiedBy> </cp:lastModifiedBy>
  <dcterms:modified xsi:type="dcterms:W3CDTF">2010-12-20T14:03:26Z</dcterms:modified>
  <cp:revision>6</cp:revision>
  <dc:subject/>
  <dc:title>Slide 1</dc:title>
</cp:coreProperties>
</file>